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525-0647-45A3-822D-9254246A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D24-28B6-41F6-8971-9C91DB71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552-65B0-4AE4-8F95-E13A56EC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19C-6C3B-42FB-9BB7-7DC27754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FC4-0091-489D-ABA4-5278F1C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DDE-5A92-41DF-98FD-4CC4FA01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BB0-D56F-440C-BFAB-08A435B2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20D-35DA-497E-B585-9C0D8F99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B26-60FB-4455-BD25-8C3D62AE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351-626A-4A41-9D73-F8BC140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B9E-387B-4B15-93E4-A4C53BB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27D-3382-4C95-BF11-36A32EF1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3B20-3A7C-4D66-84B5-6F81BBD6C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2057400"/>
            <a:ext cx="6248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ДУХОВНИ ДАРБИ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7200"/>
            <a:ext cx="9144000" cy="101592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1. С радост споделям с другите как Христос ме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овел при Себе Си.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47920"/>
            <a:ext cx="9144000" cy="1572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2. Помагам на хората да не остават безучастни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църковния живот и да не са непостоянни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уховния живот.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971800"/>
            <a:ext cx="9144000" cy="1015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3. Обикновено съм по-развълнуван за бъдещет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отколкото за миналото.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962520"/>
            <a:ext cx="9144000" cy="459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4. Давам щедро свои вещи или пари за Божието дело.1  2  3  4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19720"/>
            <a:ext cx="9144000" cy="459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 името на Господа утешавам обезпокоените.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876920"/>
            <a:ext cx="9144000" cy="1015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6. Осигурявам добрия ред в църквата  /дякон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ратата, на амвона, за почистване и др./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7. Гостоприемен съм.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7200"/>
            <a:ext cx="9144000" cy="10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8. Приемам молбите за застъпническа моли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сериозно, отколкото други християни.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47920"/>
            <a:ext cx="9144000" cy="10159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9. Имам прозрения, които убеждават други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християни.    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1015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0. Зная за къде съм тръгнал и виждам друг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християни, които ме следват.                                    1   2   3   4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1. Помагам на онеправданите.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8862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2. Отдават ми се езиците - уча ги лесно, за 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служа сред други народи.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8006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3. Готов съм да работя за неукрепналите във вя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или отклонилите се от нея християни.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1500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4. Приятна ми е обичайната работа в църква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която би отегчила други.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9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5. Разяснявам ясно ученията на Писанието на други.1  2  3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8254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6. Обичам да разрешавам сложни проблеми.            1   2   3   4   5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600200"/>
            <a:ext cx="9144000" cy="1015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7. Обичам да си поставям цели и да разработв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ланове, за да ги постигна.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146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8. Склонен съм да виждам под повърхност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и да изпитвам мотивите на другите.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5320"/>
            <a:ext cx="9144000" cy="10159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9. Обяснявам ясно Библейските истини, кои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насочват хората към Исус като Спасител.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95680"/>
            <a:ext cx="9144000" cy="10159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0. Чрез говоренето си предизвиквам онез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които изглеждат духовно апатични.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8640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1. Доверявам се на Божието присъствие и сила 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невъзможното.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38360"/>
            <a:ext cx="9144000" cy="1015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2. Чувствам потребност да осигурявам 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 спешните финансови нужди в Божието дело.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5248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3. В името на Господа “лекувам” успешно онез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които са духовно болни.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4. Давам инструкции за развитието на Божието дело.1  2  3  4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81280"/>
            <a:ext cx="9144000" cy="1015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5. Мога да накарам непознати  да се чувства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уютно и спокойно в дома ми.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720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6. Молитвата е едно от любимите ми “духо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нимания”.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6272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7. Откривам и усвоявам нови факти и принцип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свързани с библейската истина.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8. Помагам на другите да живеят според истината.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90720"/>
            <a:ext cx="9144000" cy="101592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9. Приятно ми е да посещавам болници 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старчески домове и съм благословен.                      1   2   3   4   5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98108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0. Мога да разговарям добре с християни 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азлични раси и култури.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971800"/>
            <a:ext cx="9144000" cy="10159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1. Познавам добре и мен ме познават добре, оне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на които служа и които ръководя.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03848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2. Чувствам се удовлетворен, когато върша нещ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 Божия слава.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105520"/>
            <a:ext cx="9144000" cy="1015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3. Представям трудните библейски исти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азбираемо за другите.                                                1   2   3  4   5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5240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4. Мога да правя правилни избори.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85920"/>
            <a:ext cx="914400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5. Мога да ръководя групи във вземането на решения. 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05040"/>
            <a:ext cx="9144000" cy="1015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6. Мога да разбера каква духовна дарба има ед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християнин и каква няма.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871720"/>
            <a:ext cx="9144000" cy="1015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7. Наблягам на онези вести, които са най-важ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 спасението.                                                               1   2   3   4   5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96252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8. Мога да съветвам обърканите, виновните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ристрастените.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029200"/>
            <a:ext cx="9144000" cy="1937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9. Сигурен съм в специалната Божия воля 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бъдещето разрастване на делото Му, дори кога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ругите не са.                                                                1   2   3   4   5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7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7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858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0. Способен съм да спечеля много пар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които да инвестирам в Божието дело.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1. Моля се за изцелението на другите.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133720"/>
            <a:ext cx="9144000" cy="10159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2. Разпространявам евангелска литератур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естници.     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3. Любезен съм и уважавам всеки гост.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4. Бог отговаря на молитвите ми  по осезаем начин.1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14800"/>
            <a:ext cx="9144000" cy="1015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5. Изучавам и чета много, за да разбера библейски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истини.         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105520"/>
            <a:ext cx="9144000" cy="10159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6. Насърчавам другите, когато възникнат труд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 Божието дело.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9480"/>
            <a:ext cx="9144000" cy="1015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7. Извеждам инвалиди на разходка и 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магам по практични начини.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600200"/>
            <a:ext cx="9144000" cy="45972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8. Наслаждавам се на живота в чужда държава.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7400"/>
            <a:ext cx="9144000" cy="15721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9. Помагам на нуждаещите се християни, като 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рипомням различни пасажи от Библията и 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моля с тях.   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6576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0. Склонен съм по-скоро да изпълнявам заповед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отколкото да ги давам.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10159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1. Споделям библейски истини с други и ги вод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към промяна.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638680"/>
            <a:ext cx="9144000" cy="1015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2. Мога да предлагам подходящи за съответни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стове хора.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09480"/>
            <a:ext cx="9144000" cy="1572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3. Способен съм да убеждавам християни и да 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ъзлагам работа, чрез която да упражняв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уховните си дарби.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4. Мога да разпознавам лицемерите бързо.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90920"/>
            <a:ext cx="9144000" cy="101592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50000">
                <a:srgbClr val="ffffff"/>
              </a:gs>
              <a:gs pos="100000">
                <a:srgbClr val="d60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5. Непрестанно търся невярващи, за да ги спече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 Христос.   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135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6. Успокоявам болните и страдащите християни.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3848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7. Доверявам се на Бог, когато всичко изглеж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безнадеждно.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105520"/>
            <a:ext cx="9144000" cy="1015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8. Склонен съм да поддържам по-нисък станда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на живот, за да облагодетелствам Божието дело.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9. Помагам ефективно на по-незнаещите от мен.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143000"/>
            <a:ext cx="9144000" cy="1015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0. Щастлив съм, когато мога да помогна на уч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 време на библейски урок.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1. Радвам се, когато непознати идват в дома ми.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743200"/>
            <a:ext cx="9144000" cy="1015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2. Моля се дори когато би трябвало да върш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руги неща. 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09880"/>
            <a:ext cx="9144000" cy="101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3. Способен съм да разграничавам ключови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и важни моменти в Писанието.                                 1   2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876920"/>
            <a:ext cx="9144000" cy="10159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4. Другите ме следват, защото имам позн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които допринасят за развитието на църквата.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5. Насърчавам хората в затвора или инвалидите.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175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bg-BG" sz="5400" spc="-1" strike="noStrike">
                <a:solidFill>
                  <a:srgbClr val="3333cc"/>
                </a:solidFill>
                <a:latin typeface="Times New Roman"/>
              </a:rPr>
              <a:t>ВЪПРОСНИК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bg-BG" sz="5400" spc="-1" strike="noStrike">
                <a:solidFill>
                  <a:srgbClr val="3333cc"/>
                </a:solidFill>
                <a:latin typeface="Times New Roman"/>
              </a:rPr>
              <a:t>ЗА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bg-BG" sz="5400" spc="-1" strike="noStrike">
                <a:solidFill>
                  <a:srgbClr val="3333cc"/>
                </a:solidFill>
                <a:latin typeface="Times New Roman"/>
              </a:rPr>
              <a:t>ДУХОВНИТЕ ДАРБ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6. Имам способност да уча чужди езици.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19320"/>
            <a:ext cx="9144000" cy="10159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7. Способен съм да връщам в църквата хора, кои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са се отклонили от християнската общност.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36232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8. Радвам се, когато другите изразяват нуждат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си от помощ.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505320"/>
            <a:ext cx="9144000" cy="10159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9. Обучавам християните, за да бъдат по-успеш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ученици на Христос.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648320"/>
            <a:ext cx="9144000" cy="1015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90. Чувствам необикновеното присъствие на Бог, кога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трябва да се вземе някакво важно решение.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75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СЛЕД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4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bg-BG" sz="4400" spc="-1" strike="noStrike">
                <a:solidFill>
                  <a:srgbClr val="3333cc"/>
                </a:solidFill>
                <a:latin typeface="Times New Roman"/>
              </a:rPr>
              <a:t>ТАБЛИЦА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ЗА ОЦЕНЯВАНЕ НА ДУХОВНИ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ДАРБ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ТАБЛИЦА ЗА ОЦЕНЯВАНЕ НА ДУХОВНИТЕ ДАРБИ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Оценка на отговорите          Общо               Дар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А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     19     37     55     73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Администрати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Б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    20      38    56      74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розорл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В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    21      39     57     75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Благовести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Г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4    22      40     58     76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Увещав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Д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5    23      41     59     77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я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Е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6    24      42     60     78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ав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Ж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7    25      43     61      79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Изц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З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8    26      44     62      80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мо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И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9    27      45     63      81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Гостоприем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К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0   28      46     64      82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Застъпнич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ТАБЛИЦА ЗА ОЦЕНЯВАНЕ НА ДУХОВНИТЕ ДАРБИ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Оценка на отговорите             Общо               Дар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Л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1      29      47      65      83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М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2      30      48      66      84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одител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Н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3      31      49      67      85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Мил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О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4      32      50      68      86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Мисиони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П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5      33      51      69      87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асто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Р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6      34      52      70      88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Служ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С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7      35      53      71      89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Учител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ед Т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8      36      54      72      90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Мъдр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73094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Оградете трите най-високи резултата. Това ще ви помогне да определите коя е вашата дарба за служене на  Бога и Неговата църк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510516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 КОРИНТЯНИ 15 : 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2819520"/>
            <a:ext cx="7238880" cy="15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Затова възлюбени мои братя, бъдете твърди, непоколебими и преизобилствайте всякога в Господното дело, понеже знаете, че в Господа трудът ви не е напразен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119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Този въпросник, разкрива духовните ни дарби и единствено правилните отговори са честните. Въпросите ще ни помогнат да открием своята дарба за християнско служене и по този начин да намерим своето място в тялото Христово - църкв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00956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bg-BG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bg-BG" sz="2800" spc="-1" strike="noStrike">
                <a:solidFill>
                  <a:srgbClr val="3333cc"/>
                </a:solidFill>
                <a:latin typeface="Times New Roman"/>
              </a:rPr>
              <a:t>Дарбите са различни, но Духът е същият. Службите са различни, но Господ е същият. Различни са и действията, но Бог е същият, Който върши всичко във всичките човец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bg-BG" sz="2800" spc="-1" strike="noStrike">
                <a:solidFill>
                  <a:srgbClr val="3333cc"/>
                </a:solidFill>
                <a:latin typeface="Times New Roman"/>
              </a:rPr>
              <a:t>А на всеки се дава проявяването на Духа за обща полз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33cc"/>
                </a:solidFill>
                <a:latin typeface="Times New Roman"/>
              </a:rPr>
              <a:t>И всичко това се върши от един и същ Дух, Който разпределя на всеки особено, както Му е угодно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bg-BG" sz="2800" spc="-1" strike="noStrike">
                <a:solidFill>
                  <a:srgbClr val="ff66ff"/>
                </a:solidFill>
                <a:latin typeface="Times New Roman"/>
              </a:rPr>
              <a:t>1 Коринтяни 12 : 4 - 7,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Указания :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градете 1,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о изявлението е невярно или не се отнася до в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градете 2,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о изявлението е невярно по принци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градете 3,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о изявлението е някъде по средата между вярно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невяр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градете 4,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о изявлението е вярно по принци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градете 5,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о изявлението е винаги вяр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. Лесно упълномощавам други да поемат някоя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ажна отговорност.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002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. Ясно схващам разликата между истината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блудата.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9092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3. Мога да водя други към решение за спас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чрез вяра в Христа.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33920"/>
            <a:ext cx="9144000" cy="1015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4. Окуражавам неуверените, притеснените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обезкуражените с думи.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5. Вярвам, че Бог ще изпълни всички свои обещания.1  2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81480"/>
            <a:ext cx="9144000" cy="1015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6. Управлявам парите си добре, за да мога 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дкрепям  финансово Божието дело.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72200"/>
            <a:ext cx="9144000" cy="459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7. В Господното име изцелявам.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8. Помагам на църковните водачи в работата им.    1   2   3   4   5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99"/>
              </a:gs>
              <a:gs pos="100000">
                <a:srgbClr val="ff00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9. Осигурявам храна за онези, които са в нужда.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24160"/>
            <a:ext cx="9144000" cy="1015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99ff"/>
              </a:gs>
              <a:gs pos="100000">
                <a:srgbClr val="33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0. Когато се моля за другите, често губя предста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 времето.   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5146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1. Имам способността да откривам нови исти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за себе си.     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5752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2. Мога да убеждавам другите да се стремят къ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стигането на целите, представени в Библията.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624560"/>
            <a:ext cx="9144000" cy="1015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3. Работя с удоволствие с хора, които 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ренебрегнати от обществото.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71500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4. Лесно се приспособявам в култура, различ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от моята.                     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грешно   По-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0880"/>
            <a:ext cx="9144000" cy="1015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5. Радвам се на възможността за духовно израств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на група християни. 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716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6. Радвам се, когато мога да направя нещ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специално за църквата.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8600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7. Давам възможност на хората да изучава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библейските истини подробно.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76720"/>
            <a:ext cx="9144000" cy="1015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8. Прилагам принципите на Божието Слово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собствения си живот.   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267080"/>
            <a:ext cx="9144000" cy="1015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19. Мога да давам идеи и да организирам хората 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по-ефективно служене.            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257800"/>
            <a:ext cx="9144000" cy="10159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20. Мога да правя разграничение между това, кое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е лошо, и това, което е добро.                                    1   2   3   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20:58:06Z</dcterms:created>
  <dc:creator>CASD-Pleven</dc:creator>
  <dc:description/>
  <dc:language>en-US</dc:language>
  <cp:lastModifiedBy>TrifonTrifonow</cp:lastModifiedBy>
  <dcterms:modified xsi:type="dcterms:W3CDTF">2005-12-13T10:33:24Z</dcterms:modified>
  <cp:revision>149</cp:revision>
  <dc:subject/>
  <dc:title>No Slide Title</dc:title>
</cp:coreProperties>
</file>